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80A-FB1A-4021-B129-44EE43CC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6628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181040"/>
            <a:ext cx="866628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2EC-0B9E-446E-806F-4B0904AD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0960" y="1913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181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0960" y="4181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B04A-0663-40DA-904A-87739F53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279036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1913040"/>
            <a:ext cx="279036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0800" y="1913040"/>
            <a:ext cx="279036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181040"/>
            <a:ext cx="279036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181040"/>
            <a:ext cx="279036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0800" y="4181040"/>
            <a:ext cx="279036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6FF-C724-4388-BE0E-EEA54D87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DE07-FBEA-416F-9DA7-414F2F11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13040"/>
            <a:ext cx="866628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C549-998A-4A4A-9C91-E6BD4172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6628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A0D7-DFB6-4C18-ACA9-3945B2E4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289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0960" y="1913040"/>
            <a:ext cx="42289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B1C5-D529-4371-B180-90F152C5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8185-B5C5-43F0-ACCF-0C059FC7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360" y="539640"/>
            <a:ext cx="906156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DEB4-51A3-42E3-8775-2D5E9E34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0960" y="1913040"/>
            <a:ext cx="42289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181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D076-C567-45B9-9F5A-FECFCA87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13040"/>
            <a:ext cx="866628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AC1-3E25-4306-BCCB-B0DDA61F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289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0960" y="1913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0960" y="4181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9019-5CBF-4B32-BBF2-DDCD29C4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0960" y="1913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181040"/>
            <a:ext cx="866628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784E-ADF1-4ECC-B9D6-C1E95D96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6628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181040"/>
            <a:ext cx="866628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91C1-93B7-49FD-B527-516B72D1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0960" y="1913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181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0960" y="4181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087E-E7C8-41F2-8C03-9DE3F8EC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279036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0760" y="1913040"/>
            <a:ext cx="279036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80800" y="1913040"/>
            <a:ext cx="279036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181040"/>
            <a:ext cx="279036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0760" y="4181040"/>
            <a:ext cx="279036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80800" y="4181040"/>
            <a:ext cx="279036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4729-8C90-44BF-A048-5D0FF0A0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C340B-E86C-4EC0-A54D-C07F6D4C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0360" y="1913040"/>
            <a:ext cx="866628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44BB6-6403-4DF1-B235-3B9AA696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6628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138C0-7204-4C18-8B1B-D2456B0A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289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0960" y="1913040"/>
            <a:ext cx="42289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5EFD1-04D5-4729-B258-0FC825A2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BA265-A661-4C19-9135-D92A2063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6628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82F-5E4A-4B0C-BB93-0A0BFB92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4360" y="539640"/>
            <a:ext cx="906156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67928-F04C-41A0-91B7-0F4E0BE2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60960" y="1913040"/>
            <a:ext cx="42289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0360" y="4181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4028F-5C93-4857-891C-CEF99F14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289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0960" y="1913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60960" y="4181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79495-F667-4B9A-88E9-A5108CEC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0960" y="1913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360" y="4181040"/>
            <a:ext cx="866628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CCD7C-2332-4734-A3FA-D8BF844A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6628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0360" y="4181040"/>
            <a:ext cx="866628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DEE40-2FEF-4D1F-A2EF-4C36A5C7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0960" y="1913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0360" y="4181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60960" y="4181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A5E51-ECB8-4F66-B165-7603A6A7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279036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50760" y="1913040"/>
            <a:ext cx="279036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80800" y="1913040"/>
            <a:ext cx="279036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0360" y="4181040"/>
            <a:ext cx="279036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50760" y="4181040"/>
            <a:ext cx="279036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80800" y="4181040"/>
            <a:ext cx="279036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7D920-7BEB-463A-BF1F-E4D5CE2C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289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0960" y="1913040"/>
            <a:ext cx="42289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5DE-CEC9-4258-8AE5-B35D55FE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6E9-323F-4A4E-8D18-0487FFB6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539640"/>
            <a:ext cx="906156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1A57-08B3-42DF-AE77-26FBADE5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0960" y="1913040"/>
            <a:ext cx="42289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181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A1C8-F8B6-463F-B7FB-CFEB8DB6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289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0960" y="1913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0960" y="4181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61D2-46B2-4D05-8B81-EF679007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0960" y="1913040"/>
            <a:ext cx="422892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181040"/>
            <a:ext cx="866628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946-BD63-475A-8531-A3130B00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B86A3-9F99-4AAC-99E1-B87B2DF532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720" y="1912680"/>
            <a:ext cx="8663040" cy="433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76360" y="6527520"/>
            <a:ext cx="23349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52752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55000" y="6527520"/>
            <a:ext cx="23349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12611-884F-4B80-991B-BC86BB8F65F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15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20360" y="1913040"/>
            <a:ext cx="866628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76000" y="652788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52788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54640" y="652788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71107-5E11-4565-98BF-08D775D88DE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eadingrockets.org/books/interviews/blume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eadingrockets.org/books/interviews/blume/" TargetMode="External"/><Relationship Id="rId3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652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Jokerman"/>
              </a:rPr>
              <a:t>All About Judy Bl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675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22168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Jokerman"/>
              </a:rPr>
              <a:t>By: </a:t>
            </a:r>
            <a:r>
              <a:rPr b="0" lang="en-US" sz="3200" spc="-1" strike="noStrike">
                <a:solidFill>
                  <a:srgbClr val="ccccff"/>
                </a:solidFill>
                <a:latin typeface="Jokerman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Jokerman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Jokerman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Jokerman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Jokerman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Jokerman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Jokerman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Jokerman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Jokerman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Jokerman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Jokerman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Jokerman"/>
              </a:rPr>
              <a:t>Aveonne Hi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92200" indent="-563400" algn="r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22168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Jokerman"/>
                <a:ea typeface="Arial Unicode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%20001" descr=""/>
          <p:cNvPicPr/>
          <p:nvPr/>
        </p:nvPicPr>
        <p:blipFill>
          <a:blip r:embed=""/>
          <a:stretch/>
        </p:blipFill>
        <p:spPr>
          <a:xfrm>
            <a:off x="457200" y="15238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20720" y="1821960"/>
            <a:ext cx="86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2057400"/>
            <a:ext cx="82296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  <a:ea typeface="Arial Unicode MS"/>
              </a:rPr>
              <a:t>Judy Blume grew up in Elizabeth, New Jersey, the setting of many of her books. As a child, she dreamed of being all kinds of things — detectives, a spy, an actress, even a cowgirl, but never a writer. Though she loved to read and made up stories for her paper dolls, it never occurred to her that she could be</a:t>
            </a:r>
            <a:r>
              <a:rPr b="0" lang="en-US" sz="4000" spc="-1" strike="noStrike">
                <a:solidFill>
                  <a:srgbClr val="ffffff"/>
                </a:solidFill>
                <a:latin typeface="Joker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Jokerman"/>
                <a:ea typeface="Arial Unicode MS"/>
              </a:rPr>
              <a:t>a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72720" y="457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Jokerman"/>
              </a:rPr>
              <a:t>Lets talk about Judy Bl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8600" y="685800"/>
            <a:ext cx="907092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2"/>
              </a:rPr>
              <a:t>Click now for an intervie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906948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Jokerman"/>
              </a:rPr>
              <a:t>What books have she writt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20360" y="1956960"/>
            <a:ext cx="86742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440" y="2076480"/>
            <a:ext cx="94582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  <a:ea typeface="Arial Unicode MS"/>
              </a:rPr>
              <a:t>She began her writing career when she was 27, after her children started school. In fact, her character Fudge, is based on her son, Larry, when he was a child. Her first book, </a:t>
            </a:r>
            <a:r>
              <a:rPr b="0" i="1" lang="en-US" sz="3200" spc="-1" strike="noStrike">
                <a:solidFill>
                  <a:srgbClr val="ffffff"/>
                </a:solidFill>
                <a:latin typeface="Jokerman"/>
                <a:ea typeface="Arial Unicode MS"/>
              </a:rPr>
              <a:t>Tales of a Fourth Grade Nothing</a:t>
            </a:r>
            <a:r>
              <a:rPr b="0" lang="en-US" sz="3200" spc="-1" strike="noStrike">
                <a:solidFill>
                  <a:srgbClr val="ffffff"/>
                </a:solidFill>
                <a:latin typeface="Jokerman"/>
                <a:ea typeface="Arial Unicode MS"/>
              </a:rPr>
              <a:t> was published in 1972. Adults will recognize the titles of many of her award-winning titles — books like </a:t>
            </a:r>
            <a:r>
              <a:rPr b="0" i="1" lang="en-US" sz="3200" spc="-1" strike="noStrike">
                <a:solidFill>
                  <a:srgbClr val="ffffff"/>
                </a:solidFill>
                <a:latin typeface="Jokerman"/>
                <a:ea typeface="Arial Unicode MS"/>
              </a:rPr>
              <a:t>Blubber</a:t>
            </a:r>
            <a:r>
              <a:rPr b="0" lang="en-US" sz="3200" spc="-1" strike="noStrike">
                <a:solidFill>
                  <a:srgbClr val="ffffff"/>
                </a:solidFill>
                <a:latin typeface="Jokerman"/>
                <a:ea typeface="Arial Unicode MS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Jokerman"/>
                <a:ea typeface="Arial Unicode MS"/>
              </a:rPr>
              <a:t>Are You There God? It's Me, Margaret</a:t>
            </a:r>
            <a:r>
              <a:rPr b="0" lang="en-US" sz="3200" spc="-1" strike="noStrike">
                <a:solidFill>
                  <a:srgbClr val="ffffff"/>
                </a:solidFill>
                <a:latin typeface="Jokerman"/>
                <a:ea typeface="Arial Unicode MS"/>
              </a:rPr>
              <a:t>, and </a:t>
            </a:r>
            <a:r>
              <a:rPr b="0" i="1" lang="en-US" sz="3200" spc="-1" strike="noStrike">
                <a:solidFill>
                  <a:srgbClr val="ffffff"/>
                </a:solidFill>
                <a:latin typeface="Jokerman"/>
                <a:ea typeface="Arial Unicode MS"/>
              </a:rPr>
              <a:t>Superfudge</a:t>
            </a:r>
            <a:r>
              <a:rPr b="0" lang="en-US" sz="3200" spc="-1" strike="noStrike">
                <a:solidFill>
                  <a:srgbClr val="ffffff"/>
                </a:solidFill>
                <a:latin typeface="Jokerman"/>
                <a:ea typeface="Arial Unicode MS"/>
              </a:rPr>
              <a:t> — and new generations of fans appreci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360" y="-506880"/>
            <a:ext cx="9068040" cy="33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9999ff"/>
                </a:solidFill>
                <a:latin typeface="Jokerman"/>
              </a:rPr>
              <a:t>Map of where she lives. She lives in Elizabeth, New Jersey. The climate is cold right n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9158400" cy="38862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86724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Jokerman"/>
              </a:rPr>
              <a:t>Four skills my author does we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98040" y="1883880"/>
            <a:ext cx="867420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37520"/>
                <a:tab algn="l" pos="9594720"/>
                <a:tab algn="l" pos="1005192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Jokerman"/>
              </a:rPr>
              <a:t>Humor</a:t>
            </a:r>
            <a:r>
              <a:rPr b="0" lang="en-US" sz="3200" spc="-1" strike="noStrike">
                <a:solidFill>
                  <a:srgbClr val="9999ff"/>
                </a:solidFill>
                <a:latin typeface="Joker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37520"/>
                <a:tab algn="l" pos="9594720"/>
                <a:tab algn="l" pos="1005192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Jokerman"/>
              </a:rPr>
              <a:t>Good sett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37520"/>
                <a:tab algn="l" pos="9594720"/>
                <a:tab algn="l" pos="1005192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Jokerman"/>
              </a:rPr>
              <a:t>Powerful ope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37520"/>
                <a:tab algn="l" pos="9594720"/>
                <a:tab algn="l" pos="1005192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Jokerman"/>
              </a:rPr>
              <a:t>Good voice (Makes the character seem re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360" y="584280"/>
            <a:ext cx="9068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Jokerman"/>
              </a:rPr>
              <a:t>Books of Judy Bl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24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657600" y="2057400"/>
            <a:ext cx="1928880" cy="2276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5715000" y="2057400"/>
            <a:ext cx="1828800" cy="2276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7543800" y="2057400"/>
            <a:ext cx="2057400" cy="2276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4360" y="573120"/>
            <a:ext cx="90694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Jokerman"/>
              </a:rPr>
              <a:t>Resource</a:t>
            </a:r>
            <a:br>
              <a:rPr sz="4400"/>
            </a:br>
            <a:r>
              <a:rPr b="0" lang="en-US" sz="4400" spc="-1" strike="noStrike">
                <a:solidFill>
                  <a:srgbClr val="ccccff"/>
                </a:solidFill>
                <a:latin typeface="Jokerman"/>
              </a:rPr>
              <a:t>(I got everything from this pag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722160" y="3200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3973680"/>
            <a:ext cx="8915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readingrockets.org/books/interviews/blume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3:29:17Z</dcterms:created>
  <dc:creator/>
  <dc:description/>
  <dc:language>en-US</dc:language>
  <cp:lastModifiedBy/>
  <cp:revision>0</cp:revision>
  <dc:subject/>
  <dc:title/>
</cp:coreProperties>
</file>